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4.png" ContentType="image/png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ACE-85F2-4985-AA30-D8AED437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89A-42AD-43D4-A031-0274875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7AE-C283-42BC-BA28-115AF2F4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76E-4BFE-4DC7-A7DD-BEC24790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3D7-EE9A-458F-9B9F-9060043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112-B959-4225-BCF5-1E62DE18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462-BE2C-46D9-B975-BFF183F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A9D-4B68-41C2-B82C-B9794A5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FDD-7E84-4109-9CF3-5B33698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561-B862-4661-BA9E-38F1BE4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F2D-A17D-4632-B016-C0EBCAF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B9D-BC09-4626-9676-C1C45C2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0054-003B-43AF-81C4-98738F62D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67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3.xml"/><Relationship Id="rId3" Type="http://schemas.openxmlformats.org/officeDocument/2006/relationships/slide" Target="slide72.xml"/><Relationship Id="rId4" Type="http://schemas.openxmlformats.org/officeDocument/2006/relationships/slide" Target="slide81.xml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slide" Target="slide66.xml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0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30480"/>
            <a:ext cx="8076960" cy="524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0600" y="989640"/>
            <a:ext cx="742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Basic Skills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in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Higher Mathemat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laslogo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914400" cy="144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3080" y="5401080"/>
            <a:ext cx="28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ert Glen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viser in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1520" y="4167000"/>
            <a:ext cx="33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thematics 1(H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Outcom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81480" y="1905120"/>
            <a:ext cx="2286000" cy="9903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0120" y="182844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97180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38680" y="3276720"/>
            <a:ext cx="18288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43800" y="327636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23760" y="4800600"/>
            <a:ext cx="1143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543800" y="472392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019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71500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276720"/>
            <a:ext cx="1981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th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e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, the greater the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9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752480" y="3613320"/>
            <a:ext cx="563904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 C1 on page 11 of 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752480" y="315612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1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260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114080" y="24678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590920" y="37026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Equ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2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1520" y="1688400"/>
            <a:ext cx="508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has equation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B through (1, -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erpend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B through (1, 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709560" y="3303720"/>
            <a:ext cx="3291120" cy="312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Parallel lin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</a:rPr>
              <a:t>paralle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n line is (1, -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) = 3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4799160" y="3316320"/>
            <a:ext cx="3520800" cy="3120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Perpendicular lin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33cc33"/>
                </a:solidFill>
                <a:latin typeface="Arial"/>
              </a:rPr>
              <a:t>per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/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n line is (1, -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) = -1/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=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+ 3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+ 3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705640" y="1924200"/>
            <a:ext cx="2631240" cy="1008720"/>
          </a:xfrm>
          <a:prstGeom prst="rect">
            <a:avLst/>
          </a:prstGeom>
          <a:solidFill>
            <a:srgbClr val="ff99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for re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finding equ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traight li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193760" y="2070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Find the equation of the 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33440" y="2824560"/>
            <a:ext cx="51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0, 3), paralle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35960" y="339768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1, 5), per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43880" y="3939120"/>
            <a:ext cx="53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-2, 2), paralle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451800" y="4478760"/>
            <a:ext cx="52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5, -3), per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36680" y="4824360"/>
            <a:ext cx="517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3, -1), parallel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951520" y="2085480"/>
            <a:ext cx="2643120" cy="360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1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4" name="" descr=""/>
          <p:cNvPicPr/>
          <p:nvPr/>
        </p:nvPicPr>
        <p:blipFill>
          <a:blip r:embed="rId1"/>
          <a:stretch/>
        </p:blipFill>
        <p:spPr>
          <a:xfrm>
            <a:off x="461880" y="1984320"/>
            <a:ext cx="65268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752480" y="361332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s C2 and C3 on page 11 of 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752480" y="315612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PC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5943600"/>
            <a:ext cx="25146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the letter of the correct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1949400"/>
            <a:ext cx="335304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rry, wrong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6095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38088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5029200"/>
            <a:ext cx="33526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ient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5943600"/>
            <a:ext cx="25146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the letter of the correct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19720"/>
            <a:ext cx="3352680" cy="22096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5720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43"/>
                </a:moveTo>
                <a:lnTo>
                  <a:pt x="13376" y="6455"/>
                </a:lnTo>
                <a:lnTo>
                  <a:pt x="13376" y="4714"/>
                </a:lnTo>
                <a:lnTo>
                  <a:pt x="15152" y="4714"/>
                </a:lnTo>
                <a:lnTo>
                  <a:pt x="15152" y="8230"/>
                </a:lnTo>
                <a:lnTo>
                  <a:pt x="17763" y="10806"/>
                </a:lnTo>
                <a:lnTo>
                  <a:pt x="16109" y="10806"/>
                </a:lnTo>
                <a:lnTo>
                  <a:pt x="16109" y="17996"/>
                </a:lnTo>
                <a:lnTo>
                  <a:pt x="5491" y="17996"/>
                </a:lnTo>
                <a:lnTo>
                  <a:pt x="5491" y="10806"/>
                </a:lnTo>
                <a:lnTo>
                  <a:pt x="3837" y="10806"/>
                </a:lnTo>
                <a:close/>
              </a:path>
              <a:path fill="darkenLess" w="21600" h="21613">
                <a:moveTo>
                  <a:pt x="13376" y="6455"/>
                </a:moveTo>
                <a:lnTo>
                  <a:pt x="13376" y="4714"/>
                </a:lnTo>
                <a:lnTo>
                  <a:pt x="15152" y="4714"/>
                </a:lnTo>
                <a:lnTo>
                  <a:pt x="15152" y="8230"/>
                </a:lnTo>
                <a:close/>
              </a:path>
              <a:path fill="darkenLess" w="21600" h="21613">
                <a:moveTo>
                  <a:pt x="9877" y="14305"/>
                </a:moveTo>
                <a:lnTo>
                  <a:pt x="11723" y="14305"/>
                </a:lnTo>
                <a:lnTo>
                  <a:pt x="11723" y="17996"/>
                </a:lnTo>
                <a:lnTo>
                  <a:pt x="16109" y="17996"/>
                </a:lnTo>
                <a:lnTo>
                  <a:pt x="16109" y="10806"/>
                </a:lnTo>
                <a:lnTo>
                  <a:pt x="5491" y="10806"/>
                </a:lnTo>
                <a:lnTo>
                  <a:pt x="5491" y="17996"/>
                </a:lnTo>
                <a:lnTo>
                  <a:pt x="9877" y="1799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617220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3429000"/>
            <a:ext cx="6172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2743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 all lines from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3733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1320" y="50292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419720" y="20570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2743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 all lines from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3733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wn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91320" y="50292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 rot="1953000">
            <a:off x="6200640" y="3504960"/>
            <a:ext cx="157176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19720" y="205704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4800600"/>
            <a:ext cx="7391520" cy="160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2743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 all lines from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0292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57150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 rot="1953000">
            <a:off x="6200640" y="3504960"/>
            <a:ext cx="157176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43000"/>
            <a:ext cx="8305920" cy="53341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91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047760" cy="239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39732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 MT Condensed Light"/>
              </a:rPr>
              <a:t>Straight lin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flipH="1">
            <a:off x="4419000" y="2666880"/>
            <a:ext cx="3429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1532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358128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441972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246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924680" y="266652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388620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199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flipH="1">
            <a:off x="6705000" y="2666880"/>
            <a:ext cx="11430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562000" y="3048120"/>
            <a:ext cx="11430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419000" y="3429000"/>
            <a:ext cx="11430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532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812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358128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441972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54100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 could have measu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the gradient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343400" y="3885840"/>
            <a:ext cx="990720" cy="16002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69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419720" y="2286000"/>
            <a:ext cx="3429000" cy="228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09680" y="35812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0" y="3962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4419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0" y="4800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43400" y="2286000"/>
            <a:ext cx="0" cy="2286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625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64832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 rot="1953000">
            <a:off x="5651640" y="3031920"/>
            <a:ext cx="1876320" cy="47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/>
          <p:nvPr/>
        </p:nvSpPr>
        <p:spPr>
          <a:xfrm>
            <a:off x="449568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0773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705720" y="380988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3048120"/>
            <a:ext cx="1143000" cy="761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19720" y="228600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09680" y="35812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0" y="3962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4419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0" y="4800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54100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 could have measu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the gradient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74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57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0800" y="41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76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36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6292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419720" y="3733920"/>
            <a:ext cx="1066680" cy="16761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 rot="1953000">
            <a:off x="5651640" y="3031920"/>
            <a:ext cx="1876320" cy="47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773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flipH="1">
            <a:off x="4419000" y="2666880"/>
            <a:ext cx="3429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0" name=""/>
          <p:cNvSpPr/>
          <p:nvPr/>
        </p:nvSpPr>
        <p:spPr>
          <a:xfrm>
            <a:off x="81532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05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924680" y="266652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924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19720" y="3886200"/>
            <a:ext cx="3429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9132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09680" y="3657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40384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62320" y="44197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62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62320" y="51055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52480" y="527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419720" y="2286000"/>
            <a:ext cx="3429000" cy="228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2286000"/>
            <a:ext cx="0" cy="2286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150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64832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 rot="1953000">
            <a:off x="5651640" y="3031920"/>
            <a:ext cx="1876320" cy="47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"/>
          <p:cNvSpPr/>
          <p:nvPr/>
        </p:nvSpPr>
        <p:spPr>
          <a:xfrm>
            <a:off x="2209680" y="3657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4038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44197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2320" y="51055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527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9568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0773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87692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19720" y="41911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ula to memo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334120" y="2514240"/>
            <a:ext cx="21333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467480" y="22096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35053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41911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43200" y="396252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819520" y="4419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4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BRAIN1" descr=""/>
          <p:cNvPicPr/>
          <p:nvPr/>
        </p:nvPicPr>
        <p:blipFill>
          <a:blip r:embed="rId1"/>
          <a:stretch/>
        </p:blipFill>
        <p:spPr>
          <a:xfrm>
            <a:off x="2127240" y="5300640"/>
            <a:ext cx="1192320" cy="10796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1600200" y="3962520"/>
            <a:ext cx="22096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7692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19720" y="41911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ula to memo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334120" y="2514240"/>
            <a:ext cx="21333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67480" y="22096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35053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76520" y="41911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43200" y="396252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-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19520" y="441972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3200" y="48769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87692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41911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28880" y="2529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gradient of line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334120" y="2514240"/>
            <a:ext cx="21333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674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6 ,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29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76520" y="36576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342900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86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43200" y="419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4572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952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7180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57150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6095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960" y="5574240"/>
            <a:ext cx="2041920" cy="891000"/>
          </a:xfrm>
          <a:prstGeom prst="wedgeRoundRectCallout">
            <a:avLst>
              <a:gd name="adj1" fmla="val -43569"/>
              <a:gd name="adj2" fmla="val 701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you g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876920" y="21337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19720" y="37339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924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28880" y="2529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gradient of line 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334120" y="3047760"/>
            <a:ext cx="2133360" cy="99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6 ,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952880" y="3962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2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6520" y="36576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342900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67480" y="3048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4120" y="40384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43200" y="419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(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1952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4952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7180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960" y="5574240"/>
            <a:ext cx="2041920" cy="891000"/>
          </a:xfrm>
          <a:prstGeom prst="wedgeRoundRectCallout">
            <a:avLst>
              <a:gd name="adj1" fmla="val -43569"/>
              <a:gd name="adj2" fmla="val 701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you g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143000"/>
            <a:ext cx="8305920" cy="53341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91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047760" cy="239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81480" y="1828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1828800" y="3200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(a)  Gradients and straight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886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(b)  Gradients an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572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(c)  Parallel and perpen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3080" y="2559960"/>
            <a:ext cx="42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lick on the one 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55300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373392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4844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924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28880" y="2529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gradient of line 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0000" y="2590920"/>
            <a:ext cx="3048120" cy="1600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6292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5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94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-3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36576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3429000"/>
            <a:ext cx="1447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3886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0000" y="25909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10000" y="419112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86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41911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(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74320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860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95480" y="4952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81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432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1800" y="56386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48120" y="6019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91120" y="6172200"/>
            <a:ext cx="3352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>
            <a:hlinkClick r:id="rId2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960" y="5029560"/>
            <a:ext cx="2041920" cy="891000"/>
          </a:xfrm>
          <a:prstGeom prst="wedgeRoundRectCallout">
            <a:avLst>
              <a:gd name="adj1" fmla="val -43569"/>
              <a:gd name="adj2" fmla="val 701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you g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71600" y="3429000"/>
            <a:ext cx="6400800" cy="21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equation of a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n its gradient and th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cept on th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-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47242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800600" y="2895480"/>
            <a:ext cx="3200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197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672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34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10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19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" y="25909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KL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½ and passes through the point (0,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38080" y="44197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81080" y="4267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651760" y="44593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48120" y="42829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238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2388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3352320" y="3886200"/>
            <a:ext cx="2514600" cy="7621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0" y="47242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800600" y="2895480"/>
            <a:ext cx="3200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9528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197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81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8672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34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010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19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25909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KL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½ and passes through the point (0,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90720" y="4511520"/>
            <a:ext cx="228600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2971800" y="3124080"/>
            <a:ext cx="1600200" cy="19051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72000" y="3124080"/>
            <a:ext cx="457200" cy="22860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09680" y="5257800"/>
            <a:ext cx="838440" cy="762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048120" y="3885840"/>
            <a:ext cx="3429000" cy="2133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BRAIN1" descr=""/>
          <p:cNvPicPr/>
          <p:nvPr/>
        </p:nvPicPr>
        <p:blipFill>
          <a:blip r:embed="rId1"/>
          <a:stretch/>
        </p:blipFill>
        <p:spPr>
          <a:xfrm>
            <a:off x="1527120" y="5300640"/>
            <a:ext cx="1192320" cy="10796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72000" y="47242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4800600" y="2895480"/>
            <a:ext cx="3200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528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197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181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1722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34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19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7200" y="30481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line with  grad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90720" y="3962520"/>
            <a:ext cx="22860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05320" y="56386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is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33720" y="43434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055520" y="2548080"/>
            <a:ext cx="45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PQ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-2 and passes through the point (0,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41988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72280" y="4724280"/>
            <a:ext cx="274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10200" y="2590920"/>
            <a:ext cx="1371600" cy="259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0064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039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7704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53200" y="3048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29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7232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48400" y="2409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24560" y="4929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PQ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99120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0" y="34290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952520" y="2362320"/>
            <a:ext cx="1295640" cy="2743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77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52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25780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81480" y="4038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386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43600" y="2376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248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57320" y="25480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EF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¾ and passes through the point (0, -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EF is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01992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52480" y="380988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 A1 questions 1 - 10 on page 3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752480" y="33526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>
            <a:hlinkClick r:id="rId2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19320" y="3429000"/>
            <a:ext cx="6629400" cy="21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equation of a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n one point on the line  and the gradi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3341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48320" y="45720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486400" y="2590560"/>
            <a:ext cx="1066680" cy="2438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436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4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67280" y="3519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48520" y="26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257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477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3244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528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4, 3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8080" y="3962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38098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3920" y="40021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574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0481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3880" y="4572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523880" y="54864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8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52680" y="3505320"/>
            <a:ext cx="289584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15000" y="45723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54840" y="54853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88280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62320" y="1828800"/>
            <a:ext cx="342396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adi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29000" y="37339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traight lin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53341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48320" y="45720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5486400" y="2590560"/>
            <a:ext cx="1066680" cy="2438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436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4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67280" y="3519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48520" y="26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257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77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3244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9528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4, 3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48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90720" y="4511520"/>
            <a:ext cx="274320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81080" y="5257800"/>
            <a:ext cx="4648320" cy="763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629400" y="3962520"/>
            <a:ext cx="0" cy="137160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2590920" y="3428640"/>
            <a:ext cx="373356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429000" y="3885840"/>
            <a:ext cx="281952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BRAIN1" descr=""/>
          <p:cNvPicPr/>
          <p:nvPr/>
        </p:nvPicPr>
        <p:blipFill>
          <a:blip r:embed="rId1"/>
          <a:stretch/>
        </p:blipFill>
        <p:spPr>
          <a:xfrm>
            <a:off x="1684440" y="5300640"/>
            <a:ext cx="1191960" cy="1079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341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48320" y="45720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486400" y="2590560"/>
            <a:ext cx="1066680" cy="2438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867280" y="3886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3886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48520" y="26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257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77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3244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528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0880" y="3003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248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90720" y="4267080"/>
            <a:ext cx="27432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56386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is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32080" y="4648320"/>
            <a:ext cx="1440" cy="96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609588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410080" y="48769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5638680" y="2514600"/>
            <a:ext cx="914400" cy="22096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913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6201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638680" y="4038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2200" y="27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578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5530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3244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7150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PQ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0958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609588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10080" y="48769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5638680" y="2514600"/>
            <a:ext cx="914400" cy="22096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913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201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8006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638680" y="4038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172200" y="27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578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5530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244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150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PQ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5716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33480" y="426708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33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 2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2856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62240" y="579132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76920" y="335268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01280" y="42710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35600" y="426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709720" y="57902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6, -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½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49108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002200" y="3429000"/>
            <a:ext cx="322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724280" y="3352320"/>
            <a:ext cx="3124440" cy="7621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721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077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008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6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5627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781680" y="3290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434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201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98920" y="3978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124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199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MN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51055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48320" y="34290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724280" y="3352320"/>
            <a:ext cx="3124440" cy="7621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800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077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08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6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627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781680" y="3290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434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6201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814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7242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6, -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½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MN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09480" y="41911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8580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57360" y="5105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171440" y="55627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77120" y="419112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010280" y="38858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666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4740120"/>
            <a:ext cx="2286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both sides by 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lear the fr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192400" y="4190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16400" y="41900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213640" y="51044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449440" y="5561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6186600" y="24379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1480" y="388620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586480" y="2666880"/>
            <a:ext cx="2606760" cy="11541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896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46756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8624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2436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62960" y="3367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53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01000" y="377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0088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341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4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495680" y="464832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R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4356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715000" y="24379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388620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2666880"/>
            <a:ext cx="3124080" cy="13716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3818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5720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8148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162920" y="3367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7242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0010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5800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341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4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R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150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914400" y="41911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71680" y="510552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171440" y="556272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257800" y="3123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4740120"/>
            <a:ext cx="2286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both sides by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lear the fr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148480" y="4239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1640" y="420408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30200" y="465192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70440" y="51044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88800" y="5561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790720" y="55616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1752480" y="380988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 A1 questions 11 - 20 on page 3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752480" y="33526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4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>
            <a:hlinkClick r:id="rId1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143000" y="3429000"/>
            <a:ext cx="685800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equation of a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n two points on th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188280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739152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                 Click on the section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38080" y="2514600"/>
            <a:ext cx="7391520" cy="459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838080" y="3124080"/>
            <a:ext cx="7391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The equation of a line given its gradi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nd the intercept o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648320"/>
            <a:ext cx="73915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The equation of a line given o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point on the line and the grad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562720"/>
            <a:ext cx="7391520" cy="825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The equation of a line given tw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1640" y="236232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A (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 (6, 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720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371600" y="3946680"/>
            <a:ext cx="2438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00200" y="4343400"/>
            <a:ext cx="14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146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971800" y="435924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-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048120" y="4740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14600" y="5273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124080" y="512136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20040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5883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911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055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8620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971880" y="4876920"/>
            <a:ext cx="13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1468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73392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29400" y="4648320"/>
            <a:ext cx="20574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A (3, 1) as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 on the 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629400" y="5432400"/>
            <a:ext cx="205740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You get exactl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answer if you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B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556272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81480" y="358128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019920" y="2514240"/>
            <a:ext cx="1676160" cy="7621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2578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53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80010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6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6386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7724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864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3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1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274320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8672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543800" y="2209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2940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962520" y="38862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74000" y="488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554800" y="48758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457200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B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013040" y="254808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C (1, 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 (5, 1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56272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36576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5715000" y="2438280"/>
            <a:ext cx="1371600" cy="9144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2578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487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162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1814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3341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3152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62720" y="3062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720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371600" y="3946680"/>
            <a:ext cx="2590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00200" y="4343400"/>
            <a:ext cx="14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75248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5146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95480" y="435924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-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514600" y="5273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124080" y="512136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0040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4080" y="5883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911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055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962520" y="487692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09880" y="5410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8636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29400" y="4648320"/>
            <a:ext cx="20574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C (1, 2) as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 on the 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629400" y="5432400"/>
            <a:ext cx="205740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You get exactl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answer if you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B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595920" y="2852640"/>
            <a:ext cx="99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6172200" y="3040200"/>
            <a:ext cx="39384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038480" y="39625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4812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13040" y="254808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C (1, 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 (5, 1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556272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181480" y="36576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715000" y="2438280"/>
            <a:ext cx="1371600" cy="9144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2578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487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814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3152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  <p:sp>
        <p:nvSpPr>
          <p:cNvPr id="1421" name=""/>
          <p:cNvSpPr/>
          <p:nvPr/>
        </p:nvSpPr>
        <p:spPr>
          <a:xfrm>
            <a:off x="7162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341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562720" y="3062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9343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9600" y="487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564160" y="48805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27440" y="256212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G (-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 (5, 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671976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86400" y="2895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643720" y="2743200"/>
            <a:ext cx="2395440" cy="846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3059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772400" y="3586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2624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620120" y="358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896000" y="28004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3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19880" y="24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886880" y="3309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495680" y="457200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B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642924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5643720" y="2743200"/>
            <a:ext cx="2395440" cy="846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371600" y="3946680"/>
            <a:ext cx="2590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00200" y="4343400"/>
            <a:ext cx="14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75248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146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71800" y="44355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-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(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048120" y="48006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514600" y="5273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512136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7672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048120" y="5883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911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055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7339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809880" y="487692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648240" y="53341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086360" y="579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629400" y="4648320"/>
            <a:ext cx="20574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G (-3, 1) as the point on the 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-3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629400" y="5432400"/>
            <a:ext cx="205740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You get exactl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answer if you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H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951440" y="3228840"/>
            <a:ext cx="99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038480" y="3962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>
            <a:hlinkClick r:id="" action="ppaction://hlinkshowjump?jump=nextslide"/>
          </p:cNvPr>
          <p:cNvSpPr/>
          <p:nvPr/>
        </p:nvSpPr>
        <p:spPr>
          <a:xfrm>
            <a:off x="6095880" y="5410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027440" y="256212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G (-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 (5, 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671976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486400" y="2895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059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519880" y="24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886880" y="3309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2624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620120" y="358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2400" y="3586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896000" y="28004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3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2924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041440" y="4880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411160" y="4880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32440" y="5337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522400" y="53330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538600" y="57949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335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4479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2193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66840" y="4876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 -½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02888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1452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5334120"/>
            <a:ext cx="205740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both sides b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to clear the fr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343400" y="3962520"/>
            <a:ext cx="304812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ller expla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15236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 -½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951440" y="3228840"/>
            <a:ext cx="99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27440" y="256212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G (-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 (5, 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671976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486400" y="2895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3059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43720" y="2743200"/>
            <a:ext cx="2395440" cy="846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772400" y="3586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2624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620120" y="358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519880" y="24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886880" y="3309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42924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4648320" y="4038480"/>
            <a:ext cx="403848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80880" y="4048200"/>
            <a:ext cx="41148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7010280" y="4495320"/>
            <a:ext cx="1371600" cy="8384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648320" y="1828800"/>
            <a:ext cx="403848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80880" y="1828800"/>
            <a:ext cx="411480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0880" y="1905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" y="24382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523880" y="2209680"/>
            <a:ext cx="129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600200" y="26510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666880" y="2057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362320" y="35053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438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3429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2819520" y="2438280"/>
            <a:ext cx="1218960" cy="609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200400" y="205740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19520" y="30322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2438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819520" y="30481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6668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862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886200" y="2057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858000" y="21337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5880" y="3505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477120" y="2286000"/>
            <a:ext cx="160020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62940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305920" y="3429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238880" y="2422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4956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705720" y="2422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943600" y="2286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0,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09680" y="3489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400800" y="3489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2666880" y="4343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362320" y="57913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38280" y="41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11480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09680" y="5775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6858000" y="4343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5530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629400" y="41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305920" y="5715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400800" y="577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2514600" y="4647960"/>
            <a:ext cx="1447920" cy="6094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743200" y="4876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00100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8660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505320" y="4556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8088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-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66880" y="5105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76720" y="4327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 , y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086600" y="510552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315200" y="425124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124080" y="4800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800600" y="4267080"/>
            <a:ext cx="3049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105520" y="4267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52880" y="480060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867280" y="45720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943600" y="4952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00600" y="5318280"/>
            <a:ext cx="3049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00600" y="5334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=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-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010280" y="5410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917520" y="3761280"/>
            <a:ext cx="1338840" cy="3988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752480" y="403848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s A2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3 on page 3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752480" y="35812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>
            <a:hlinkClick r:id="rId2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4" name="" descr=""/>
          <p:cNvPicPr/>
          <p:nvPr/>
        </p:nvPicPr>
        <p:blipFill>
          <a:blip r:embed="rId1"/>
          <a:stretch/>
        </p:blipFill>
        <p:spPr>
          <a:xfrm>
            <a:off x="1674720" y="1752480"/>
            <a:ext cx="2820960" cy="4637160"/>
          </a:xfrm>
          <a:prstGeom prst="rect">
            <a:avLst/>
          </a:prstGeom>
          <a:ln w="0">
            <a:noFill/>
          </a:ln>
        </p:spPr>
      </p:pic>
      <p:sp>
        <p:nvSpPr>
          <p:cNvPr id="1625" name=""/>
          <p:cNvSpPr/>
          <p:nvPr/>
        </p:nvSpPr>
        <p:spPr>
          <a:xfrm>
            <a:off x="1829520" y="4876920"/>
            <a:ext cx="243720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24080" y="52419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52680" y="2041560"/>
            <a:ext cx="510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Gradients</a:t>
            </a:r>
            <a:br>
              <a:rPr sz="8000"/>
            </a:b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and ang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BRAIN1" descr=""/>
          <p:cNvPicPr/>
          <p:nvPr/>
        </p:nvPicPr>
        <p:blipFill>
          <a:blip r:embed="rId1"/>
          <a:stretch/>
        </p:blipFill>
        <p:spPr>
          <a:xfrm>
            <a:off x="1555920" y="5300640"/>
            <a:ext cx="1191960" cy="107964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6934320" y="42670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449568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384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105520" y="2362320"/>
            <a:ext cx="2133360" cy="22096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6483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0866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238880" y="2362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105520" y="4572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7391520" y="2362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105520" y="47242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038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3152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0199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28954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05120" y="26827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257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91120" y="3660120"/>
            <a:ext cx="1828440" cy="18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43" y="3070"/>
                </a:moveTo>
                <a:arcTo wR="10800" hR="10800" stAng="-2742015" swAng="2742015"/>
                <a:lnTo>
                  <a:pt x="10800" y="10800"/>
                </a:lnTo>
                <a:close/>
              </a:path>
              <a:path fill="none" w="21600" h="21600">
                <a:moveTo>
                  <a:pt x="18343" y="3070"/>
                </a:moveTo>
                <a:arcTo wR="10800" hR="10800" stAng="-2742015" swAng="2742015"/>
              </a:path>
            </a:pathLst>
          </a:cu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65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1" i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133720" y="43434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51055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49568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0384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5105520" y="2362320"/>
            <a:ext cx="2133360" cy="22096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6483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0866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10552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038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62120" y="28954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91120" y="3660120"/>
            <a:ext cx="1828440" cy="18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43" y="3070"/>
                </a:moveTo>
                <a:arcTo wR="10800" hR="10800" stAng="-2742015" swAng="2742015"/>
                <a:lnTo>
                  <a:pt x="10800" y="10800"/>
                </a:lnTo>
                <a:close/>
              </a:path>
              <a:path fill="none" w="21600" h="21600">
                <a:moveTo>
                  <a:pt x="18343" y="3070"/>
                </a:moveTo>
                <a:arcTo wR="10800" hR="10800" stAng="-2742015" swAng="2742015"/>
              </a:path>
            </a:pathLst>
          </a:cu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765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98108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9568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384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3504960" y="2362320"/>
            <a:ext cx="2971800" cy="22096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7672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722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91120" y="4572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038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38080" y="3505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752480" y="419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13372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4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5180760" y="3354120"/>
            <a:ext cx="2438280" cy="243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8" y="4212"/>
                </a:moveTo>
                <a:arcTo wR="10800" hR="10800" stAng="-2255272" swAng="2255272"/>
                <a:lnTo>
                  <a:pt x="10800" y="10800"/>
                </a:lnTo>
                <a:close/>
              </a:path>
              <a:path fill="none" w="21600" h="21600">
                <a:moveTo>
                  <a:pt x="19358" y="4212"/>
                </a:moveTo>
                <a:arcTo wR="10800" hR="10800" stAng="-2255272" swAng="225527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57200" y="2133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EF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wn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ts gradient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3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477120" y="4572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82200" y="3354480"/>
            <a:ext cx="2437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46" y="4207"/>
                </a:moveTo>
                <a:arcTo wR="10800" hR="10800" stAng="-8542537" swAng="8542537"/>
                <a:lnTo>
                  <a:pt x="10800" y="10800"/>
                </a:lnTo>
                <a:close/>
              </a:path>
              <a:path fill="none" w="21600" h="21600">
                <a:moveTo>
                  <a:pt x="2246" y="4207"/>
                </a:moveTo>
                <a:arcTo wR="10800" hR="10800" stAng="-8542537" swAng="8542537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199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45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33520" y="4876920"/>
            <a:ext cx="2895480" cy="161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take the ang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the line and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si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85800" y="4267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0020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3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8108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071720" y="21906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of the line GH (to 2 dp)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68144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5105520" y="2895120"/>
            <a:ext cx="2361960" cy="1676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10552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6483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3152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5304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657600" y="3201120"/>
            <a:ext cx="2742840" cy="274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92" y="4818"/>
                </a:moveTo>
                <a:arcTo wR="10800" hR="10800" stAng="-2018097" swAng="2018097"/>
                <a:lnTo>
                  <a:pt x="10800" y="10800"/>
                </a:lnTo>
                <a:close/>
              </a:path>
              <a:path fill="none" w="21600" h="21600">
                <a:moveTo>
                  <a:pt x="19792" y="4818"/>
                </a:moveTo>
                <a:arcTo wR="10800" hR="10800" stAng="-2018097" swAng="2018097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22424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2"/>
          <a:stretch/>
        </p:blipFill>
        <p:spPr>
          <a:xfrm>
            <a:off x="431640" y="2278080"/>
            <a:ext cx="6526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4923000" y="1905120"/>
            <a:ext cx="1440" cy="37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527720" y="5257800"/>
            <a:ext cx="3396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39596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 flipV="1">
            <a:off x="4648320" y="2673360"/>
            <a:ext cx="1828800" cy="1898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38800" y="228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1722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91120" y="4572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39596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85800" y="4267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48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0020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1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98108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180760" y="3353040"/>
            <a:ext cx="2438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95" y="2572"/>
                </a:moveTo>
                <a:arcTo wR="10800" hR="10800" stAng="-2977849" swAng="2977849"/>
                <a:lnTo>
                  <a:pt x="10800" y="10800"/>
                </a:lnTo>
                <a:close/>
              </a:path>
              <a:path fill="none" w="21600" h="21600">
                <a:moveTo>
                  <a:pt x="17795" y="2572"/>
                </a:moveTo>
                <a:arcTo wR="10800" hR="10800" stAng="-2977849" swAng="297784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477120" y="4572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82920" y="3355920"/>
            <a:ext cx="24368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58" y="2526"/>
                </a:moveTo>
                <a:arcTo wR="10800" hR="10800" stAng="-7799845" swAng="7799845"/>
                <a:lnTo>
                  <a:pt x="10800" y="10800"/>
                </a:lnTo>
                <a:close/>
              </a:path>
              <a:path fill="none" w="21600" h="21600">
                <a:moveTo>
                  <a:pt x="3858" y="2526"/>
                </a:moveTo>
                <a:arcTo wR="10800" hR="10800" stAng="-7799845" swAng="7799845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199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32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071720" y="21906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of the line KL (to 2 dp)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2"/>
          <a:stretch/>
        </p:blipFill>
        <p:spPr>
          <a:xfrm>
            <a:off x="431640" y="2278080"/>
            <a:ext cx="6526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752480" y="361332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the ques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page 7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752480" y="315612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PC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>
            <a:hlinkClick r:id="rId1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 txBox="1"/>
          <p:nvPr/>
        </p:nvSpPr>
        <p:spPr>
          <a:xfrm>
            <a:off x="2971800" y="23623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aralle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4038480" y="3619440"/>
            <a:ext cx="1295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124080" y="43434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erpendic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177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00200" y="2209680"/>
            <a:ext cx="647712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            Click on the section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>
            <a:hlinkClick r:id="rId2" action="ppaction://hlinksldjump"/>
          </p:cNvPr>
          <p:cNvSpPr/>
          <p:nvPr/>
        </p:nvSpPr>
        <p:spPr>
          <a:xfrm>
            <a:off x="2514600" y="3276720"/>
            <a:ext cx="5562720" cy="459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514600" y="4267080"/>
            <a:ext cx="55627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5760" y="5334480"/>
            <a:ext cx="5537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178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114080" y="24678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590920" y="33516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Parallel 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>
            <a:hlinkClick r:id="rId2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>
            <a:off x="692280" y="3291120"/>
            <a:ext cx="38016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lines are all parall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88320" y="4341600"/>
            <a:ext cx="350172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of the lines has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y all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09480" y="1827720"/>
            <a:ext cx="3353040" cy="137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lines hav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 gra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1600200" y="3123720"/>
            <a:ext cx="2209680" cy="3048120"/>
          </a:xfrm>
          <a:prstGeom prst="line">
            <a:avLst/>
          </a:prstGeom>
          <a:ln w="38160">
            <a:solidFill>
              <a:srgbClr val="00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3962520" y="2437920"/>
            <a:ext cx="2895480" cy="3962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5105520" y="2133720"/>
            <a:ext cx="2286000" cy="3124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029200" y="1752480"/>
            <a:ext cx="3124080" cy="42674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181480" y="3048120"/>
            <a:ext cx="228600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5334120" y="2362320"/>
            <a:ext cx="2895480" cy="3962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6248520" y="3505320"/>
            <a:ext cx="2286000" cy="3124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2438280" y="4572000"/>
            <a:ext cx="304920" cy="457200"/>
          </a:xfrm>
          <a:prstGeom prst="line">
            <a:avLst/>
          </a:prstGeom>
          <a:ln w="38160">
            <a:solidFill>
              <a:srgbClr val="33cc33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533520" y="3580920"/>
            <a:ext cx="1523880" cy="2057400"/>
            <a:chOff x="533520" y="3580920"/>
            <a:chExt cx="1523880" cy="2057400"/>
          </a:xfrm>
        </p:grpSpPr>
        <p:sp>
          <p:nvSpPr>
            <p:cNvPr id="1813" name=""/>
            <p:cNvSpPr/>
            <p:nvPr/>
          </p:nvSpPr>
          <p:spPr>
            <a:xfrm flipV="1">
              <a:off x="533520" y="3580920"/>
              <a:ext cx="1523880" cy="2057400"/>
            </a:xfrm>
            <a:prstGeom prst="line">
              <a:avLst/>
            </a:prstGeom>
            <a:ln w="190440">
              <a:solidFill>
                <a:srgbClr val="cc00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1066680" y="4343040"/>
              <a:ext cx="457200" cy="609480"/>
            </a:xfrm>
            <a:prstGeom prst="line">
              <a:avLst/>
            </a:prstGeom>
            <a:ln w="190440">
              <a:solidFill>
                <a:srgbClr val="cc0099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3048120" y="1600200"/>
            <a:ext cx="2743200" cy="3733920"/>
            <a:chOff x="3048120" y="1600200"/>
            <a:chExt cx="2743200" cy="3733920"/>
          </a:xfrm>
        </p:grpSpPr>
        <p:sp>
          <p:nvSpPr>
            <p:cNvPr id="1816" name=""/>
            <p:cNvSpPr/>
            <p:nvPr/>
          </p:nvSpPr>
          <p:spPr>
            <a:xfrm flipV="1">
              <a:off x="3048120" y="1600200"/>
              <a:ext cx="2743200" cy="3733920"/>
            </a:xfrm>
            <a:prstGeom prst="line">
              <a:avLst/>
            </a:prstGeom>
            <a:ln w="7632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4343760" y="3124080"/>
              <a:ext cx="304560" cy="457200"/>
            </a:xfrm>
            <a:prstGeom prst="line">
              <a:avLst/>
            </a:prstGeom>
            <a:ln w="76320">
              <a:solidFill>
                <a:srgbClr val="00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3352680" y="2133720"/>
            <a:ext cx="3200400" cy="4419360"/>
            <a:chOff x="3352680" y="2133720"/>
            <a:chExt cx="3200400" cy="4419360"/>
          </a:xfrm>
        </p:grpSpPr>
        <p:sp>
          <p:nvSpPr>
            <p:cNvPr id="1819" name=""/>
            <p:cNvSpPr/>
            <p:nvPr/>
          </p:nvSpPr>
          <p:spPr>
            <a:xfrm flipV="1">
              <a:off x="3352680" y="2133720"/>
              <a:ext cx="3200400" cy="4419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334120" y="3276360"/>
              <a:ext cx="380880" cy="5331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 flipV="1">
            <a:off x="5105520" y="4114440"/>
            <a:ext cx="533160" cy="685800"/>
          </a:xfrm>
          <a:prstGeom prst="line">
            <a:avLst/>
          </a:prstGeom>
          <a:ln w="127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5791320" y="2971800"/>
            <a:ext cx="990360" cy="13716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6477120" y="3276720"/>
            <a:ext cx="533160" cy="7617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6172200" y="4876920"/>
            <a:ext cx="228600" cy="30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010280" y="5105160"/>
            <a:ext cx="381240" cy="5331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18960" y="1797120"/>
            <a:ext cx="311004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gradient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038480" y="1827360"/>
            <a:ext cx="3821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ny line parallel to this one has a gradient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92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6705720" y="26668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181480" y="45720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562720" y="2742840"/>
            <a:ext cx="1295280" cy="259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718080" y="27421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+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733920" y="34279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+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33920" y="4190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733920" y="50281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-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733920" y="5607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-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5715000" y="2819160"/>
            <a:ext cx="1447920" cy="29718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5715000" y="2819160"/>
            <a:ext cx="1828800" cy="3733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095880" y="2819520"/>
            <a:ext cx="1828800" cy="36576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3733920"/>
            <a:ext cx="1295640" cy="259056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994520" y="44946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394320" y="24372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04920" y="2941200"/>
            <a:ext cx="3200400" cy="1557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= 0 also belongs to this set of parallel lines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n you see why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8400" y="4845960"/>
            <a:ext cx="19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5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 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2590920" y="3886200"/>
            <a:ext cx="1371600" cy="1905120"/>
          </a:xfrm>
          <a:prstGeom prst="line">
            <a:avLst/>
          </a:prstGeom>
          <a:ln cap="rnd" w="57240">
            <a:solidFill>
              <a:srgbClr val="ff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76520" y="4419720"/>
            <a:ext cx="0" cy="457200"/>
          </a:xfrm>
          <a:prstGeom prst="line">
            <a:avLst/>
          </a:prstGeom>
          <a:ln w="92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249240" y="2802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1520" y="3504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386400" y="4266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311880" y="5028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165720" y="57902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89520" y="190512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4876920" y="3276720"/>
            <a:ext cx="18288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441972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81680" y="327636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ient (slope) of this ro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621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2485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593720" y="3319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238640" y="33199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943680" y="32893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525320" y="4905720"/>
            <a:ext cx="15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262040" y="49057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>
            <a:hlinkClick r:id="rId1" action="ppaction://hlinksldjump"/>
          </p:cNvPr>
          <p:cNvSpPr/>
          <p:nvPr/>
        </p:nvSpPr>
        <p:spPr>
          <a:xfrm>
            <a:off x="84816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>
            <a:hlinkClick r:id="rId2" action="ppaction://hlinksldjump"/>
          </p:cNvPr>
          <p:cNvSpPr/>
          <p:nvPr/>
        </p:nvSpPr>
        <p:spPr>
          <a:xfrm>
            <a:off x="632664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5053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>
            <a:hlinkClick r:id="rId3" action="ppaction://hlinksldjump"/>
          </p:cNvPr>
          <p:cNvSpPr/>
          <p:nvPr/>
        </p:nvSpPr>
        <p:spPr>
          <a:xfrm>
            <a:off x="359928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>
            <a:hlinkClick r:id="rId4" action="ppaction://hlinksldjump"/>
          </p:cNvPr>
          <p:cNvSpPr/>
          <p:nvPr/>
        </p:nvSpPr>
        <p:spPr>
          <a:xfrm>
            <a:off x="7621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rId5" action="ppaction://hlinksldjump"/>
          </p:cNvPr>
          <p:cNvSpPr/>
          <p:nvPr/>
        </p:nvSpPr>
        <p:spPr>
          <a:xfrm>
            <a:off x="856080" y="48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5053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>
            <a:hlinkClick r:id="rId6" action="ppaction://hlinksldjump"/>
          </p:cNvPr>
          <p:cNvSpPr/>
          <p:nvPr/>
        </p:nvSpPr>
        <p:spPr>
          <a:xfrm>
            <a:off x="3591000" y="486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>
            <a:hlinkClick r:id="rId7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621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581120" y="331992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447920" y="4327200"/>
            <a:ext cx="273024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4816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286000" y="4190760"/>
            <a:ext cx="259092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234680" y="3319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5053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59928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7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931080" y="3289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841400" y="348876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485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>
            <a:hlinkClick r:id="" action="ppaction://hlinkshowjump?jump=nextslide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>
            <a:hlinkClick r:id="rId2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>
            <a:hlinkClick r:id="rId3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32664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8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621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25320" y="4905720"/>
            <a:ext cx="15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743200" y="3260160"/>
            <a:ext cx="259092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519200" y="5485320"/>
            <a:ext cx="1538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56080" y="48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323040" y="3505680"/>
            <a:ext cx="21351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9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38080" y="326016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>
            <a:hlinkClick r:id="" action="ppaction://hlinkshowjump?jump=nextslide"/>
          </p:cNvPr>
          <p:cNvSpPr/>
          <p:nvPr/>
        </p:nvSpPr>
        <p:spPr>
          <a:xfrm>
            <a:off x="6248520" y="4799520"/>
            <a:ext cx="2279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221000" y="5439240"/>
            <a:ext cx="1514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262040" y="49057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053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91000" y="486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6172200" y="4267080"/>
            <a:ext cx="266688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62120" y="3276720"/>
            <a:ext cx="60948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0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505320" y="3276720"/>
            <a:ext cx="6094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248520" y="3276720"/>
            <a:ext cx="60948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62120" y="4800600"/>
            <a:ext cx="6094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505320" y="4800600"/>
            <a:ext cx="60948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324480" y="4724280"/>
            <a:ext cx="60984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324480" y="5486400"/>
            <a:ext cx="60984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966000" y="46922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010280" y="54540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207920" y="428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519200" y="5485320"/>
            <a:ext cx="1538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593720" y="3319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38640" y="33199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943680" y="32893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5320" y="4905720"/>
            <a:ext cx="15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2040" y="49057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4816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32664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59928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856080" y="48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591000" y="486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221000" y="5439240"/>
            <a:ext cx="1514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1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627200" y="3319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179960" y="3137040"/>
            <a:ext cx="15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000920" y="33037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487520" y="49057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22880" y="490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2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590920" y="4401720"/>
            <a:ext cx="259056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627200" y="3319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181400" y="3137040"/>
            <a:ext cx="15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079640" y="4479480"/>
            <a:ext cx="273024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-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4656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85680" y="2057400"/>
            <a:ext cx="1143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36232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335268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198072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ient (slope) of this ro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97180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590920" y="4401720"/>
            <a:ext cx="259056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000920" y="33037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755800" y="333648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-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460520" y="5453640"/>
            <a:ext cx="158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487520" y="49057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323040" y="3605760"/>
            <a:ext cx="21351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371600" y="3106080"/>
            <a:ext cx="259092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>
            <a:hlinkClick r:id="" action="ppaction://hlinkshowjump?jump=nextslide"/>
          </p:cNvPr>
          <p:cNvSpPr/>
          <p:nvPr/>
        </p:nvSpPr>
        <p:spPr>
          <a:xfrm>
            <a:off x="6323040" y="4677480"/>
            <a:ext cx="21351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322880" y="5439240"/>
            <a:ext cx="1441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322880" y="490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481560" y="4838760"/>
            <a:ext cx="610920" cy="6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253200" y="3313080"/>
            <a:ext cx="611280" cy="6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489480" y="3309840"/>
            <a:ext cx="610920" cy="611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65000" y="4829040"/>
            <a:ext cx="611280" cy="611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762120" y="3303720"/>
            <a:ext cx="61092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172200" y="4267080"/>
            <a:ext cx="266688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7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324480" y="4724280"/>
            <a:ext cx="60984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324480" y="5486400"/>
            <a:ext cx="60984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966000" y="46922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010280" y="54540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207920" y="428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503360" y="5453640"/>
            <a:ext cx="1538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627200" y="3319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179960" y="3137040"/>
            <a:ext cx="15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000920" y="33037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487520" y="49057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322880" y="490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322880" y="5439240"/>
            <a:ext cx="141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8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633680" y="3183120"/>
            <a:ext cx="13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122720" y="33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973200" y="329004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522440" y="4905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158360" y="490572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9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590920" y="4205160"/>
            <a:ext cx="25905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633680" y="3183120"/>
            <a:ext cx="13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0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755800" y="432720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22720" y="33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666880" y="341280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934320" y="3961440"/>
            <a:ext cx="1108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½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973200" y="329004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666880" y="341280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76720" y="4920120"/>
            <a:ext cx="2057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522440" y="4905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473880" y="3648600"/>
            <a:ext cx="2136600" cy="703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62320" y="3260160"/>
            <a:ext cx="273024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>
            <a:hlinkClick r:id="" action="ppaction://hlinkshowjump?jump=nextslide"/>
          </p:cNvPr>
          <p:cNvSpPr/>
          <p:nvPr/>
        </p:nvSpPr>
        <p:spPr>
          <a:xfrm>
            <a:off x="6473880" y="3648600"/>
            <a:ext cx="2136600" cy="703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4038480" y="5529600"/>
            <a:ext cx="2438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3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158360" y="490572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4927680" cy="346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038480" y="2438280"/>
            <a:ext cx="2286000" cy="990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66688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58128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77120" y="236196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350532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ient (slope) of this ro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20040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"/>
          <p:cNvSpPr/>
          <p:nvPr/>
        </p:nvSpPr>
        <p:spPr>
          <a:xfrm>
            <a:off x="3479760" y="4832280"/>
            <a:ext cx="612720" cy="6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65000" y="4836960"/>
            <a:ext cx="613080" cy="613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253200" y="3292560"/>
            <a:ext cx="612720" cy="6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3289320"/>
            <a:ext cx="612720" cy="6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62120" y="3298680"/>
            <a:ext cx="612720" cy="6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172200" y="4267080"/>
            <a:ext cx="266688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324480" y="4724280"/>
            <a:ext cx="60984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324480" y="5486400"/>
            <a:ext cx="60984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966000" y="46922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½ 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010280" y="54540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rallel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½ 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207920" y="428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929280" y="2710440"/>
            <a:ext cx="1032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½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500120" y="5439240"/>
            <a:ext cx="164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½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633680" y="3366000"/>
            <a:ext cx="15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22720" y="33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973200" y="329004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522440" y="4905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58360" y="490572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38480" y="5529600"/>
            <a:ext cx="2438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3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752480" y="3809880"/>
            <a:ext cx="563904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with Section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752480" y="33526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5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224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114080" y="24678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590920" y="32911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Perpendicular 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457200" y="4876920"/>
            <a:ext cx="3429000" cy="14475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6628680" y="2666880"/>
            <a:ext cx="76212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5105520" y="4952880"/>
            <a:ext cx="76176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flipH="1">
            <a:off x="5866560" y="3809880"/>
            <a:ext cx="76212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629400" y="380988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486400" y="3048120"/>
            <a:ext cx="1143000" cy="761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4343400" y="228600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2001600">
            <a:off x="6399360" y="3346560"/>
            <a:ext cx="38412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105520" y="2209320"/>
            <a:ext cx="2590560" cy="388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34340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42280" y="588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698240" y="1828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980520" y="190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98240" y="441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104120" y="306612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149920" y="29559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57200" y="180360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is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B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914400" y="39661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149920" y="3870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828800" y="396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962000" y="3349800"/>
            <a:ext cx="3448080" cy="1908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1938240" y="2819160"/>
            <a:ext cx="2557440" cy="1401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33520" y="500760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391120" y="493740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45268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685960" y="505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057480" y="493740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3577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003480" y="502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996560" y="576324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129120" y="4952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629160" y="495288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/>
          <p:nvPr/>
        </p:nvSpPr>
        <p:spPr>
          <a:xfrm>
            <a:off x="457200" y="4754520"/>
            <a:ext cx="3429000" cy="15699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H="1">
            <a:off x="5485680" y="3429000"/>
            <a:ext cx="152388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486400" y="4572000"/>
            <a:ext cx="1143000" cy="1523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343400" y="3048120"/>
            <a:ext cx="1143000" cy="1523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4038480" y="2819160"/>
            <a:ext cx="3733920" cy="289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343400" y="3048120"/>
            <a:ext cx="2286000" cy="30477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864240" y="5652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774560" y="2590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970440" y="2756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631560" y="588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107720" y="306612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149920" y="29559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57200" y="180360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is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F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914400" y="39661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49920" y="3870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828800" y="399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962000" y="3336840"/>
            <a:ext cx="4172040" cy="62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1938240" y="3684240"/>
            <a:ext cx="2405160" cy="563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33520" y="502164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419560" y="493740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46708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714400" y="505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057480" y="493740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3577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002040" y="5028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025000" y="58201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14720" y="49528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614760" y="4952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rot="3160200">
            <a:off x="5335920" y="4113000"/>
            <a:ext cx="38412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"/>
          <p:cNvSpPr/>
          <p:nvPr/>
        </p:nvSpPr>
        <p:spPr>
          <a:xfrm>
            <a:off x="457200" y="4753080"/>
            <a:ext cx="3429000" cy="1571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5866560" y="2666880"/>
            <a:ext cx="38124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5105520" y="4952880"/>
            <a:ext cx="38088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5486400" y="3809880"/>
            <a:ext cx="38088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867280" y="3809880"/>
            <a:ext cx="11430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724280" y="3429000"/>
            <a:ext cx="11430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5105520" y="1981080"/>
            <a:ext cx="1371600" cy="4114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724280" y="3429000"/>
            <a:ext cx="3353040" cy="1143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51640" y="588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459840" y="182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269240" y="316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950240" y="4461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000080" y="3088440"/>
            <a:ext cx="110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149920" y="29559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57200" y="180360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is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Q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914400" y="39870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149920" y="3870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28800" y="396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960560" y="3390840"/>
            <a:ext cx="3368520" cy="2166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1952640" y="3717720"/>
            <a:ext cx="3048120" cy="515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33520" y="504396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348280" y="493740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39544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43120" y="505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029040" y="493740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3289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976480" y="502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996560" y="57772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100320" y="49528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600360" y="4952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rot="1196400">
            <a:off x="5549400" y="3377880"/>
            <a:ext cx="38124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7" name="BRAIN1" descr=""/>
          <p:cNvPicPr/>
          <p:nvPr/>
        </p:nvPicPr>
        <p:blipFill>
          <a:blip r:embed="rId1"/>
          <a:stretch/>
        </p:blipFill>
        <p:spPr>
          <a:xfrm>
            <a:off x="1541520" y="5300640"/>
            <a:ext cx="1192320" cy="1079640"/>
          </a:xfrm>
          <a:prstGeom prst="rect">
            <a:avLst/>
          </a:prstGeom>
          <a:ln w="0">
            <a:noFill/>
          </a:ln>
        </p:spPr>
      </p:pic>
      <p:sp>
        <p:nvSpPr>
          <p:cNvPr id="2458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58080" y="3904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697360" y="1546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530600" y="4041720"/>
            <a:ext cx="356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6110280" y="1767960"/>
            <a:ext cx="0" cy="383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13400" y="2898720"/>
            <a:ext cx="307332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5070600" y="2131920"/>
            <a:ext cx="1839960" cy="2857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rot="1917600">
            <a:off x="5638320" y="3244680"/>
            <a:ext cx="38124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924960" y="187704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639200" y="46281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06160" y="3130560"/>
            <a:ext cx="3984840" cy="1292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lines with gradient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505320" y="56386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is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133720" y="4343400"/>
            <a:ext cx="0" cy="1146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"/>
          <p:cNvSpPr/>
          <p:nvPr/>
        </p:nvSpPr>
        <p:spPr>
          <a:xfrm>
            <a:off x="395280" y="3306600"/>
            <a:ext cx="8286840" cy="2830680"/>
          </a:xfrm>
          <a:custGeom>
            <a:avLst/>
            <a:gdLst/>
            <a:ahLst/>
            <a:rect l="l" t="t" r="r" b="b"/>
            <a:pathLst>
              <a:path w="5220" h="1783">
                <a:moveTo>
                  <a:pt x="0" y="0"/>
                </a:moveTo>
                <a:lnTo>
                  <a:pt x="0" y="1783"/>
                </a:lnTo>
                <a:lnTo>
                  <a:pt x="5220" y="1783"/>
                </a:lnTo>
                <a:lnTo>
                  <a:pt x="5220" y="806"/>
                </a:lnTo>
                <a:lnTo>
                  <a:pt x="2631" y="806"/>
                </a:lnTo>
                <a:lnTo>
                  <a:pt x="263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95280" y="1660680"/>
            <a:ext cx="8286840" cy="2925720"/>
          </a:xfrm>
          <a:custGeom>
            <a:avLst/>
            <a:gdLst/>
            <a:ahLst/>
            <a:rect l="l" t="t" r="r" b="b"/>
            <a:pathLst>
              <a:path w="5220" h="1843">
                <a:moveTo>
                  <a:pt x="0" y="0"/>
                </a:moveTo>
                <a:lnTo>
                  <a:pt x="5220" y="0"/>
                </a:lnTo>
                <a:lnTo>
                  <a:pt x="5220" y="1843"/>
                </a:lnTo>
                <a:lnTo>
                  <a:pt x="2631" y="1843"/>
                </a:lnTo>
                <a:lnTo>
                  <a:pt x="2631" y="1037"/>
                </a:lnTo>
                <a:lnTo>
                  <a:pt x="0" y="103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8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592520" y="4667400"/>
            <a:ext cx="3984840" cy="1292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lines with gradient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535040" y="2233800"/>
            <a:ext cx="29624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lines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grad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884400" y="16531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4898880" y="1878120"/>
            <a:ext cx="1878120" cy="1822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4807080" y="2030040"/>
            <a:ext cx="2122200" cy="20653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203800" y="1843200"/>
            <a:ext cx="2232000" cy="216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5499000" y="2193480"/>
            <a:ext cx="2205000" cy="214956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6480000" y="2487600"/>
            <a:ext cx="1878120" cy="1822320"/>
          </a:xfrm>
          <a:prstGeom prst="line">
            <a:avLst/>
          </a:prstGeom>
          <a:ln w="1396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7626240" y="1942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234280" y="22215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789600" y="17308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7323120" y="162324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343560" y="16153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28920" y="500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996920" y="3218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30160" y="50990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2422440" y="3428640"/>
            <a:ext cx="1800" cy="249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171440" y="4119480"/>
            <a:ext cx="2256120" cy="141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1370160" y="3624120"/>
            <a:ext cx="1581120" cy="2422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rot="2032200">
            <a:off x="1957320" y="4302000"/>
            <a:ext cx="38124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903760" y="3456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075120" y="54363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73120" y="1867680"/>
            <a:ext cx="4744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76360" y="3517200"/>
            <a:ext cx="4744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H="1" flipV="1">
            <a:off x="4706640" y="1886040"/>
            <a:ext cx="1297080" cy="3897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4343400" y="4462200"/>
            <a:ext cx="3270240" cy="1647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57200" y="1651680"/>
            <a:ext cx="37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line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di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y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o the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ndicular to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7629480" y="4210920"/>
            <a:ext cx="528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505520" y="4259520"/>
            <a:ext cx="1395360" cy="2094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swer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 ,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, 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3/4, -4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/3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962240" y="55062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251480" y="43646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709960" y="51393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476760" y="4748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4209840" y="5896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25800" y="5144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349600" y="399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970160" y="2850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578120" y="170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35320" y="1643760"/>
            <a:ext cx="528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4000680" y="2300040"/>
            <a:ext cx="3755880" cy="281628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853400" y="2050200"/>
            <a:ext cx="5284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18320" y="20804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103800" y="32234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65520" y="4359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313160" y="2652840"/>
            <a:ext cx="3456000" cy="11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618320" y="3137760"/>
            <a:ext cx="528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499080" y="3224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343480" y="2832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217760" y="24534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7624440" y="35884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812160" y="374868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Here are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2" name="" descr=""/>
          <p:cNvPicPr/>
          <p:nvPr/>
        </p:nvPicPr>
        <p:blipFill>
          <a:blip r:embed="rId1"/>
          <a:stretch/>
        </p:blipFill>
        <p:spPr>
          <a:xfrm>
            <a:off x="461880" y="1770120"/>
            <a:ext cx="65268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7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888840" y="4196160"/>
            <a:ext cx="3154680" cy="1936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swer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, -¼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¾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/3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, 1/5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1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½, -2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/5, 5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011560" y="1853280"/>
            <a:ext cx="18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975560" y="2531160"/>
            <a:ext cx="21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979160" y="5256720"/>
            <a:ext cx="22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990320" y="321192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005440" y="3854880"/>
            <a:ext cx="19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975200" y="455040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250280" y="36774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Here are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57200" y="1651680"/>
            <a:ext cx="37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line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di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y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o the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ndicular to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9" name="" descr=""/>
          <p:cNvPicPr/>
          <p:nvPr/>
        </p:nvPicPr>
        <p:blipFill>
          <a:blip r:embed="rId1"/>
          <a:stretch/>
        </p:blipFill>
        <p:spPr>
          <a:xfrm>
            <a:off x="461880" y="1770120"/>
            <a:ext cx="652680" cy="67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6:43:07Z</dcterms:created>
  <dc:creator>Education</dc:creator>
  <dc:description/>
  <dc:language>en-US</dc:language>
  <cp:lastModifiedBy>Pauline Ward</cp:lastModifiedBy>
  <dcterms:modified xsi:type="dcterms:W3CDTF">2004-10-31T08:52:04Z</dcterms:modified>
  <cp:revision>220</cp:revision>
  <dc:subject/>
  <dc:title>No Slide Title</dc:title>
</cp:coreProperties>
</file>